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8CF3-4597-48F8-A820-0D6AA51B5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25448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8AF7-4F99-4ABB-9B25-B73E6BCBD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2296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DB14-9556-4ADC-8837-DCDBEDD54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696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128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696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7128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FD24-4C5C-4751-B596-C7E3A16AA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EE1F-9D29-493B-B760-AFE7BFE09C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0EF8-670B-4D7B-95D7-90AB766A12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9A3E-0D04-4591-800A-717650A7F3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711C-6E17-4BC2-A756-19E4DF2C5C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0D51-F6F8-4264-8A44-B5B62352C3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080" y="4371840"/>
            <a:ext cx="6513480" cy="115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4DED-A1E8-45B4-B6D9-4C7C413318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9B8A-5C52-4EA6-A133-10AF8BB46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C6CE-3893-4BAD-B525-36970DF10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2296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8219-5679-4F6E-A1B7-8FDE8527F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FC01-C5AF-4B56-BD17-190763C015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43000" y="25448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FE39-2AF2-49A7-9980-7A411F505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42296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EBD9-2276-479C-8747-42C6562AF7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0696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71280" y="7297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4300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0696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471280" y="25448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B92E-66FF-4785-A64F-E47C188B62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CD9C-B719-4BA2-A500-ED6AD06D0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A296-2119-4118-B645-2232C7C99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F8E8-7899-485D-9B07-42BC60B2D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92080" y="4371840"/>
            <a:ext cx="6513480" cy="115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5D96-F728-48A2-9B36-2795EF435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8E90-49FD-48F0-94CC-94143C646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22960" y="25448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6BDD-5CB6-46A2-B5D4-CF6E37620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297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48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4434-6CFE-4CEF-837D-C600318E8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72760" y="5051520"/>
            <a:ext cx="5637240" cy="882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marL="9936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1" marL="99360" indent="-99360">
              <a:spcBef>
                <a:spcPts val="499"/>
              </a:spcBef>
              <a:buClr>
                <a:srgbClr val="878787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2" marL="99360" indent="-99360">
              <a:spcBef>
                <a:spcPts val="499"/>
              </a:spcBef>
              <a:buClr>
                <a:srgbClr val="878787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3" marL="99360" indent="-99360">
              <a:spcBef>
                <a:spcPts val="499"/>
              </a:spcBef>
              <a:buClr>
                <a:srgbClr val="878787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4" marL="99360" indent="-99360">
              <a:spcBef>
                <a:spcPts val="499"/>
              </a:spcBef>
              <a:buClr>
                <a:srgbClr val="878787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5" marL="99360" indent="-9936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  <a:p>
            <a:pPr lvl="6" marL="99360" indent="-9936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599000" y="6283080"/>
            <a:ext cx="2491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7E17-D4E1-4C38-9753-0E91D54ED0B7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17560" y="3132000"/>
            <a:ext cx="7174080" cy="19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01322"/>
                </a:solidFill>
                <a:latin typeface="Trebuchet MS Bold"/>
              </a:rPr>
              <a:t>Click to edit the title text format</a:t>
            </a:r>
            <a:endParaRPr b="0" lang="en-US" sz="5400" spc="-1" strike="noStrike">
              <a:solidFill>
                <a:srgbClr val="101322"/>
              </a:solidFill>
              <a:latin typeface="Trebuchet MS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d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4599000" y="6283080"/>
            <a:ext cx="2491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1D37-143E-4A58-BD19-475402F4F26A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 Bold"/>
              </a:rPr>
              <a:t>Click to edit the title text format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2" marL="784080" indent="-18252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3" marL="1058760" indent="-18252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4" marL="1351080" indent="-18252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5" marL="1351080" indent="-182520">
              <a:spcBef>
                <a:spcPts val="499"/>
              </a:spcBef>
              <a:buClr>
                <a:srgbClr val="000000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6" marL="1351080" indent="-182520">
              <a:spcBef>
                <a:spcPts val="499"/>
              </a:spcBef>
              <a:buClr>
                <a:srgbClr val="000000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Rectangle 1"/>
          <p:cNvGrpSpPr/>
          <p:nvPr/>
        </p:nvGrpSpPr>
        <p:grpSpPr>
          <a:xfrm>
            <a:off x="0" y="3865680"/>
            <a:ext cx="9156600" cy="2992320"/>
            <a:chOff x="0" y="3865680"/>
            <a:chExt cx="9156600" cy="2992320"/>
          </a:xfrm>
        </p:grpSpPr>
        <p:pic>
          <p:nvPicPr>
            <p:cNvPr id="79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3865680"/>
              <a:ext cx="91566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0" y="3865680"/>
              <a:ext cx="9156600" cy="29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1" name="Rectangle 2"/>
          <p:cNvGrpSpPr/>
          <p:nvPr/>
        </p:nvGrpSpPr>
        <p:grpSpPr>
          <a:xfrm>
            <a:off x="0" y="0"/>
            <a:ext cx="9156600" cy="3865680"/>
            <a:chOff x="0" y="0"/>
            <a:chExt cx="9156600" cy="3865680"/>
          </a:xfrm>
        </p:grpSpPr>
        <p:pic>
          <p:nvPicPr>
            <p:cNvPr id="82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38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566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4" name="Rectangle 3"/>
          <p:cNvSpPr/>
          <p:nvPr/>
        </p:nvSpPr>
        <p:spPr>
          <a:xfrm>
            <a:off x="0" y="2651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D328-A7A5-44DA-820A-50C20FD1AE56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0" y="297180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5"/>
          <a:stretch/>
        </p:blipFill>
        <p:spPr>
          <a:xfrm>
            <a:off x="1978200" y="977760"/>
            <a:ext cx="7772400" cy="159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6"/>
          <a:stretch/>
        </p:blipFill>
        <p:spPr>
          <a:xfrm>
            <a:off x="-263520" y="-566640"/>
            <a:ext cx="2944800" cy="284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7"/>
          <a:stretch/>
        </p:blipFill>
        <p:spPr>
          <a:xfrm>
            <a:off x="-152280" y="1230480"/>
            <a:ext cx="2415960" cy="1636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8"/>
          <a:stretch/>
        </p:blipFill>
        <p:spPr>
          <a:xfrm>
            <a:off x="1765440" y="49320"/>
            <a:ext cx="161280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52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54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55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7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80E0-9484-4A6E-BD83-19D17EB21C30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01322"/>
                </a:solidFill>
                <a:latin typeface="Trebuchet MS"/>
                <a:ea typeface="Trebuchet MS"/>
              </a:rPr>
              <a:t>Quantitative Data by Categorical Variable (with only 2 values)</a:t>
            </a:r>
            <a:endParaRPr b="0" lang="en-US" sz="35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924360" y="2527200"/>
            <a:ext cx="2450880" cy="227340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 stats for Value 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6591240" y="2514600"/>
            <a:ext cx="2374920" cy="229860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 stats for value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0880" y="2527200"/>
            <a:ext cx="2451240" cy="227340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Boxplot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304560"/>
            <a:ext cx="5867280" cy="20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OUTLIER TEST ON EACH VALU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DA6C-9752-40E3-9FDF-122FA04B8BE5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04920" y="2933640"/>
            <a:ext cx="8648640" cy="27050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SCRIPTION/COMPARISON OF EACH VALU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143000" y="729720"/>
            <a:ext cx="7315200" cy="407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2 sample t test on value 1vs. value2 average skittl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: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o: µ1 = µ2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a: µ1 ≠ µ2 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 (df!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Trebuchet MS"/>
              </a:rPr>
              <a:t>If reject, complete a confidence interva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8315-4AD9-4DCB-8649-E3C09ACEFE05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4D47-BA4A-4511-9B7C-36CD2BB96605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0" name="Rectangle 2"/>
          <p:cNvGrpSpPr/>
          <p:nvPr/>
        </p:nvGrpSpPr>
        <p:grpSpPr>
          <a:xfrm>
            <a:off x="-12600" y="-23760"/>
            <a:ext cx="9156600" cy="5102280"/>
            <a:chOff x="-12600" y="-23760"/>
            <a:chExt cx="9156600" cy="5102280"/>
          </a:xfrm>
        </p:grpSpPr>
        <p:pic>
          <p:nvPicPr>
            <p:cNvPr id="171" name="Rectangle 2" descr=""/>
            <p:cNvPicPr/>
            <p:nvPr/>
          </p:nvPicPr>
          <p:blipFill>
            <a:blip r:embed="rId1"/>
            <a:stretch/>
          </p:blipFill>
          <p:spPr>
            <a:xfrm>
              <a:off x="-12600" y="-20520"/>
              <a:ext cx="9156600" cy="50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-12600" y="-23760"/>
              <a:ext cx="915660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3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2EE8-B48A-4D31-95C3-D9A9DE7882A9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440" y="204480"/>
            <a:ext cx="8902800" cy="1320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1322"/>
                </a:solidFill>
                <a:latin typeface="Trebuchet MS"/>
                <a:ea typeface="Trebuchet MS"/>
              </a:rPr>
              <a:t>Quantitative Data by Candy Consumption</a:t>
            </a:r>
            <a:endParaRPr b="0" lang="en-US" sz="3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200400" y="814320"/>
            <a:ext cx="4227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, Never, Frequent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1752480"/>
          <a:ext cx="5867640" cy="1866960"/>
        </p:xfrm>
        <a:graphic>
          <a:graphicData uri="http://schemas.openxmlformats.org/drawingml/2006/table">
            <a:tbl>
              <a:tblPr/>
              <a:tblGrid>
                <a:gridCol w="1760760"/>
                <a:gridCol w="2089080"/>
                <a:gridCol w="2017800"/>
              </a:tblGrid>
              <a:tr h="93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3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09480" y="4038480"/>
          <a:ext cx="5867640" cy="1866960"/>
        </p:xfrm>
        <a:graphic>
          <a:graphicData uri="http://schemas.openxmlformats.org/drawingml/2006/table">
            <a:tbl>
              <a:tblPr/>
              <a:tblGrid>
                <a:gridCol w="1760760"/>
                <a:gridCol w="2089080"/>
                <a:gridCol w="2017800"/>
              </a:tblGrid>
              <a:tr h="93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33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865-A5E6-4A7F-B4FC-D893B3BDB211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9" name="Chart 4" descr=""/>
          <p:cNvPicPr/>
          <p:nvPr/>
        </p:nvPicPr>
        <p:blipFill>
          <a:blip r:embed="rId1"/>
          <a:stretch/>
        </p:blipFill>
        <p:spPr>
          <a:xfrm>
            <a:off x="530280" y="378000"/>
            <a:ext cx="6400800" cy="4194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838080" y="5156280"/>
            <a:ext cx="617220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eneral conclusion about distribution of the variab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304560"/>
            <a:ext cx="6648480" cy="5181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X</a:t>
            </a:r>
            <a:r>
              <a:rPr b="0" lang="en-US" sz="2200" spc="-1" strike="noStrike" baseline="30000">
                <a:solidFill>
                  <a:srgbClr val="3f3f3f"/>
                </a:solidFill>
                <a:latin typeface="Trebuchet MS"/>
              </a:rPr>
              <a:t>2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 GOF test on type of Candy Consumpt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 (df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4B86-BEC3-42B3-B799-BAA50AF0473F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914400"/>
          <a:ext cx="6858000" cy="1371600"/>
        </p:xfrm>
        <a:graphic>
          <a:graphicData uri="http://schemas.openxmlformats.org/drawingml/2006/table">
            <a:tbl>
              <a:tblPr/>
              <a:tblGrid>
                <a:gridCol w="1682640"/>
                <a:gridCol w="1552680"/>
                <a:gridCol w="1843200"/>
                <a:gridCol w="1779480"/>
              </a:tblGrid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bser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uniform)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85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7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88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90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CA40-588E-4EF0-9658-542AABC0C111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ct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01322"/>
                </a:solidFill>
                <a:latin typeface="Trebuchet MS"/>
                <a:ea typeface="Trebuchet MS"/>
              </a:rPr>
              <a:t>Distribution for Gender</a:t>
            </a:r>
            <a:endParaRPr b="0" lang="en-US" sz="4100" spc="-1" strike="noStrike">
              <a:solidFill>
                <a:srgbClr val="101322"/>
              </a:solidFill>
              <a:latin typeface="Trebuchet MS Bol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34880" y="1562040"/>
            <a:ext cx="4705560" cy="3714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8"/>
          <p:cNvSpPr/>
          <p:nvPr/>
        </p:nvSpPr>
        <p:spPr>
          <a:xfrm>
            <a:off x="5689440" y="2514600"/>
            <a:ext cx="30481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le: 52.5 %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emale: 47.5%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97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99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200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2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C059-FBC7-4346-BEB3-466EFE916735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25416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18960" indent="-318960" algn="r"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01322"/>
                </a:solidFill>
                <a:latin typeface="Trebuchet MS Bold"/>
              </a:rPr>
              <a:t>Simple Two-Way Table </a:t>
            </a:r>
            <a:br>
              <a:rPr sz="4100"/>
            </a:br>
            <a:r>
              <a:rPr b="0" lang="en-US" sz="4100" spc="-1" strike="noStrike">
                <a:solidFill>
                  <a:srgbClr val="101322"/>
                </a:solidFill>
                <a:latin typeface="Trebuchet MS Bold"/>
                <a:ea typeface="ヒラギノ角ゴ ProN W3"/>
              </a:rPr>
              <a:t>	</a:t>
            </a:r>
            <a:r>
              <a:rPr b="0" lang="en-US" sz="4100" spc="-1" strike="noStrike">
                <a:solidFill>
                  <a:srgbClr val="101322"/>
                </a:solidFill>
                <a:latin typeface="Trebuchet MS Bold"/>
                <a:ea typeface="ヒラギノ角ゴ ProN W3"/>
              </a:rPr>
              <a:t>	</a:t>
            </a:r>
            <a:r>
              <a:rPr b="0" lang="en-US" sz="4100" spc="-1" strike="noStrike">
                <a:solidFill>
                  <a:srgbClr val="101322"/>
                </a:solidFill>
                <a:latin typeface="Trebuchet MS Bold"/>
              </a:rPr>
              <a:t>of Categorical Data</a:t>
            </a:r>
            <a:endParaRPr b="0" lang="en-US" sz="4100" spc="-1" strike="noStrike">
              <a:solidFill>
                <a:srgbClr val="101322"/>
              </a:solidFill>
              <a:latin typeface="Trebuchet MS Bold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62120" y="2286000"/>
          <a:ext cx="7543800" cy="3200400"/>
        </p:xfrm>
        <a:graphic>
          <a:graphicData uri="http://schemas.openxmlformats.org/drawingml/2006/table">
            <a:tbl>
              <a:tblPr/>
              <a:tblGrid>
                <a:gridCol w="1414440"/>
                <a:gridCol w="1414440"/>
                <a:gridCol w="1679400"/>
                <a:gridCol w="1621080"/>
                <a:gridCol w="1414440"/>
              </a:tblGrid>
              <a:tr h="801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9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m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143000" y="7297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EGMENTED BAR GRAPH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F232-363A-4432-8023-60A66DA94062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705720" y="1600200"/>
            <a:ext cx="190476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st the % in each category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f the males…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 = 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f the females…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 = 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0" name="Chart 9" descr=""/>
          <p:cNvPicPr/>
          <p:nvPr/>
        </p:nvPicPr>
        <p:blipFill>
          <a:blip r:embed="rId1"/>
          <a:stretch/>
        </p:blipFill>
        <p:spPr>
          <a:xfrm>
            <a:off x="304920" y="1292400"/>
            <a:ext cx="5790960" cy="47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X2 Test for Associat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Observed Table: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Expected Tabl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4" marL="1310400" indent="-176760">
              <a:spcBef>
                <a:spcPts val="3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 (df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9D6F-7FAA-4EB5-B4B1-9FC1DA58C71D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5562720" y="1371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made in Excel &amp; copied 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630440"/>
          <a:ext cx="4876920" cy="187488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336680"/>
                <a:gridCol w="1289160"/>
              </a:tblGrid>
              <a:tr h="62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ti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requen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2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25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93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96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8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3BDB-AB61-4D0B-873B-CF1C3389BB62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751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1322"/>
                </a:solidFill>
                <a:latin typeface="Trebuchet MS"/>
                <a:ea typeface="Trebuchet MS"/>
              </a:rPr>
              <a:t>Introduction &amp;</a:t>
            </a:r>
            <a:br>
              <a:rPr sz="3200"/>
            </a:br>
            <a:r>
              <a:rPr b="0" lang="en-US" sz="3200" spc="-1" strike="noStrike">
                <a:solidFill>
                  <a:srgbClr val="101322"/>
                </a:solidFill>
                <a:latin typeface="Trebuchet MS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101322"/>
                </a:solidFill>
                <a:latin typeface="Trebuchet MS"/>
                <a:ea typeface="ヒラギノ角ゴ ProN W3"/>
              </a:rPr>
              <a:t>	</a:t>
            </a:r>
            <a:r>
              <a:rPr b="0" lang="en-US" sz="3200" spc="-1" strike="noStrike">
                <a:solidFill>
                  <a:srgbClr val="101322"/>
                </a:solidFill>
                <a:latin typeface="Trebuchet MS"/>
                <a:ea typeface="Trebuchet MS"/>
              </a:rPr>
              <a:t>Thoughts Behind The Experiment</a:t>
            </a:r>
            <a:endParaRPr b="0" lang="en-US" sz="32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066680" y="2057400"/>
            <a:ext cx="6997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Trebuchet MS"/>
              </a:rPr>
              <a:t>- We wanted to chose an experiment that was easy to complete, organized, and some what entertaining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Trebuchet MS"/>
              </a:rPr>
              <a:t>- Our original hypothesis, was that people who ate more Candy on a Regular Basis and had a stronger preference for Sweets rather than Chocolate would have more success and be able to correctly identify more skittles in one minute than those who do not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080" y="4371840"/>
            <a:ext cx="6513480" cy="248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18960" indent="-318960" algn="r"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 Bold"/>
              </a:rPr>
              <a:t>Candy preference (chocolate or sweet)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2F28-6BEF-48B5-86A8-36637BEAFD3C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457200"/>
          <a:ext cx="4419360" cy="1676520"/>
        </p:xfrm>
        <a:graphic>
          <a:graphicData uri="http://schemas.openxmlformats.org/drawingml/2006/table">
            <a:tbl>
              <a:tblPr/>
              <a:tblGrid>
                <a:gridCol w="2298600"/>
                <a:gridCol w="2120760"/>
              </a:tblGrid>
              <a:tr h="838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ocol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wee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8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33520" y="2438280"/>
          <a:ext cx="4419360" cy="1676520"/>
        </p:xfrm>
        <a:graphic>
          <a:graphicData uri="http://schemas.openxmlformats.org/drawingml/2006/table">
            <a:tbl>
              <a:tblPr/>
              <a:tblGrid>
                <a:gridCol w="2298600"/>
                <a:gridCol w="2120760"/>
              </a:tblGrid>
              <a:tr h="838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ocol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wee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8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219" name="Chart 6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73068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33520" y="228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1 prop Z interva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(for the true percent of one value of your categorical variable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hat = percent of people who like chocolate = 20/50 = 40%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Formula (df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Interval (a, b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6A8A-F19D-4D19-90D0-8D46507FEE10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223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5" name="Rectangle 3"/>
          <p:cNvSpPr/>
          <p:nvPr/>
        </p:nvSpPr>
        <p:spPr>
          <a:xfrm>
            <a:off x="0" y="2362320"/>
            <a:ext cx="3657600" cy="36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ercents of each valu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f the male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 = _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 = _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f the female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 = ____%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F028-AF15-4497-92F6-15287F9C4311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7360" y="304920"/>
          <a:ext cx="4730760" cy="1592280"/>
        </p:xfrm>
        <a:graphic>
          <a:graphicData uri="http://schemas.openxmlformats.org/drawingml/2006/table">
            <a:tbl>
              <a:tblPr/>
              <a:tblGrid>
                <a:gridCol w="1567080"/>
                <a:gridCol w="1709640"/>
                <a:gridCol w="1454040"/>
              </a:tblGrid>
              <a:tr h="755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oco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w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228" name="Chart 9" descr=""/>
          <p:cNvPicPr/>
          <p:nvPr/>
        </p:nvPicPr>
        <p:blipFill>
          <a:blip r:embed="rId2"/>
          <a:stretch/>
        </p:blipFill>
        <p:spPr>
          <a:xfrm>
            <a:off x="3809880" y="2494080"/>
            <a:ext cx="5102280" cy="403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X2 Test for Associat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Observed Table: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Expected Tabl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lvl="4" marL="1310400" indent="-176760">
              <a:spcBef>
                <a:spcPts val="3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84680" indent="-17820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0247-70C3-4939-8203-FBE6A6515FF4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562720" y="1371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made in Excel &amp; copied 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805040"/>
          <a:ext cx="4730760" cy="1590480"/>
        </p:xfrm>
        <a:graphic>
          <a:graphicData uri="http://schemas.openxmlformats.org/drawingml/2006/table">
            <a:tbl>
              <a:tblPr/>
              <a:tblGrid>
                <a:gridCol w="1567080"/>
                <a:gridCol w="1709640"/>
                <a:gridCol w="1454040"/>
              </a:tblGrid>
              <a:tr h="755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oco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w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234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36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237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39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CF7F-38D5-4420-BBC2-851975E88F80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9920" y="343080"/>
            <a:ext cx="7543800" cy="159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ct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Sources of Error and Bias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244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46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247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49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CC9D-375C-4149-9714-C9B817F6C97F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388620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ct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Conclusion 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52200" y="1749240"/>
            <a:ext cx="7162920" cy="167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Make a conclusion about each of the tests/intervals you did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Make a conclusion about each graph you made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2" descr=""/>
          <p:cNvPicPr/>
          <p:nvPr/>
        </p:nvPicPr>
        <p:blipFill>
          <a:blip r:embed="rId1"/>
          <a:stretch/>
        </p:blipFill>
        <p:spPr>
          <a:xfrm>
            <a:off x="-158760" y="103320"/>
            <a:ext cx="6559560" cy="587052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17F8-3B13-4596-816B-FC1FD2641396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886200" y="4038480"/>
          <a:ext cx="4724280" cy="205740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1451160"/>
                <a:gridCol w="817560"/>
                <a:gridCol w="819000"/>
              </a:tblGrid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YEW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asses/Conta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04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6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07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9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64C8-B0BC-4902-8E63-E5179786D491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The Task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90440" indent="-183960">
              <a:lnSpc>
                <a:spcPct val="80000"/>
              </a:lnSpc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40 Subjects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Objective: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How many Skittles can the Subject identify in one minute based solely on their Taste Buds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marL="190440" indent="-18396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Trebuchet MS"/>
              </a:rPr>
              <a:t>Categorical Factors:</a:t>
            </a:r>
            <a:endParaRPr b="0" lang="en-US" sz="20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Gender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2" marL="784080" indent="-182520">
              <a:lnSpc>
                <a:spcPct val="80000"/>
              </a:lnSpc>
              <a:spcBef>
                <a:spcPts val="4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Trebuchet MS"/>
              </a:rPr>
              <a:t>Male or Female</a:t>
            </a:r>
            <a:endParaRPr b="0" lang="en-US" sz="16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Candy Consumption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2" marL="784080" indent="-182520">
              <a:lnSpc>
                <a:spcPct val="80000"/>
              </a:lnSpc>
              <a:spcBef>
                <a:spcPts val="4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3f3f3f"/>
                </a:solidFill>
                <a:latin typeface="Trebuchet MS"/>
              </a:rPr>
              <a:t>Frequent, Sometimes, Never</a:t>
            </a:r>
            <a:endParaRPr b="0" lang="en-US" sz="16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Candy Preference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  <a:p>
            <a:pPr lvl="2" marL="784080" indent="-182520">
              <a:lnSpc>
                <a:spcPct val="80000"/>
              </a:lnSpc>
              <a:spcBef>
                <a:spcPts val="400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Trebuchet MS"/>
              </a:rPr>
              <a:t>Chocolate or Sweet</a:t>
            </a:r>
            <a:endParaRPr b="0" lang="en-US" sz="1600" spc="-1" strike="noStrike">
              <a:solidFill>
                <a:srgbClr val="3f3f3f"/>
              </a:solidFill>
              <a:latin typeface="Trebuchet MS"/>
            </a:endParaRPr>
          </a:p>
          <a:p>
            <a:pPr lvl="1" marL="509760" indent="-18288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Trebuchet MS"/>
              </a:rPr>
              <a:t>Hair Color</a:t>
            </a:r>
            <a:endParaRPr b="0" lang="en-US" sz="1800" spc="-1" strike="noStrike">
              <a:solidFill>
                <a:srgbClr val="3f3f3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15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7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18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0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2286-BB50-46F4-A357-53D00BEFCDCF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3136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Overall Quantitative Data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07800" y="4948200"/>
            <a:ext cx="84060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ata is right skewed and unimodal. The center is at the median of 2 skittles with an IQR of 2 skittles as well. The range was (0, 6) skittles. All data points are within the Upper &amp; Lower Fence (UF=6) (LF=-2), thus there are no outliers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357120" y="1190520"/>
            <a:ext cx="4122720" cy="3532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4802040" y="1190520"/>
            <a:ext cx="3911760" cy="24638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PLO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0320-98E8-4BDE-AAAC-9B408009CFC4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04920" y="380880"/>
            <a:ext cx="3911400" cy="35816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STAT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: 2.0796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Dev.: 1.4579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: 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1: 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: 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3: 3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: 6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495680" y="380880"/>
            <a:ext cx="3911760" cy="35816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PROBABILITY PLO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plot, conclusion on the normality of the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14280" y="4267080"/>
            <a:ext cx="8093160" cy="1981440"/>
          </a:xfrm>
          <a:prstGeom prst="rect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ER TES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142640" y="729720"/>
            <a:ext cx="7086600" cy="347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1 sample T Interval on the true average # of skittl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Formula (df!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Interval (a, b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EC92-845D-4287-A320-E999A8193EC5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1"/>
          <p:cNvGrpSpPr/>
          <p:nvPr/>
        </p:nvGrpSpPr>
        <p:grpSpPr>
          <a:xfrm>
            <a:off x="0" y="5108400"/>
            <a:ext cx="9156600" cy="1749600"/>
            <a:chOff x="0" y="5108400"/>
            <a:chExt cx="9156600" cy="1749600"/>
          </a:xfrm>
        </p:grpSpPr>
        <p:pic>
          <p:nvPicPr>
            <p:cNvPr id="134" name="Rectangle 1" descr=""/>
            <p:cNvPicPr/>
            <p:nvPr/>
          </p:nvPicPr>
          <p:blipFill>
            <a:blip r:embed="rId1"/>
            <a:stretch/>
          </p:blipFill>
          <p:spPr>
            <a:xfrm>
              <a:off x="0" y="5110920"/>
              <a:ext cx="91566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5108400"/>
              <a:ext cx="91566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6" name="Rectangle 2"/>
          <p:cNvGrpSpPr/>
          <p:nvPr/>
        </p:nvGrpSpPr>
        <p:grpSpPr>
          <a:xfrm>
            <a:off x="0" y="0"/>
            <a:ext cx="9156600" cy="5108400"/>
            <a:chOff x="0" y="0"/>
            <a:chExt cx="9156600" cy="5108400"/>
          </a:xfrm>
        </p:grpSpPr>
        <p:pic>
          <p:nvPicPr>
            <p:cNvPr id="137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66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0"/>
              <a:ext cx="91566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9" name="Rectangle 3"/>
          <p:cNvSpPr/>
          <p:nvPr/>
        </p:nvSpPr>
        <p:spPr>
          <a:xfrm>
            <a:off x="0" y="3767040"/>
            <a:ext cx="91566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665A-8A46-469C-B666-E715D49E4002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281160" indent="-281160" algn="r">
              <a:lnSpc>
                <a:spcPct val="100000"/>
              </a:lnSpc>
              <a:buClr>
                <a:srgbClr val="c3260c"/>
              </a:buClr>
              <a:buSzPct val="127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01322"/>
                </a:solidFill>
                <a:latin typeface="Trebuchet MS"/>
                <a:ea typeface="Trebuchet MS"/>
              </a:rPr>
              <a:t>Quantitative Data by Gender</a:t>
            </a:r>
            <a:endParaRPr b="0" lang="en-US" sz="4600" spc="-1" strike="noStrike">
              <a:solidFill>
                <a:srgbClr val="101322"/>
              </a:solidFill>
              <a:latin typeface="Trebuchet MS Bold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4"/>
          <a:stretch/>
        </p:blipFill>
        <p:spPr>
          <a:xfrm>
            <a:off x="122400" y="1179360"/>
            <a:ext cx="3614400" cy="3087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3924360" y="1587600"/>
            <a:ext cx="2450880" cy="227304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male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n- 2.1052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 Dev.- 1.663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- 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1- 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n-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3- 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- 6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591240" y="1459080"/>
            <a:ext cx="2374920" cy="2539800"/>
          </a:xfrm>
          <a:prstGeom prst="rect">
            <a:avLst/>
          </a:prstGeom>
          <a:noFill/>
          <a:ln w="5724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e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n- 2.0769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 Dev.- 1.4579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- 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1- 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n-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3- 3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- 4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304560"/>
            <a:ext cx="5867280" cy="20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38160" rIns="38160" tIns="38160" bIns="38160" anchor="t">
            <a:normAutofit/>
          </a:bodyPr>
          <a:p>
            <a:pPr marL="190440" indent="-183960">
              <a:spcBef>
                <a:spcPts val="499"/>
              </a:spcBef>
              <a:buClr>
                <a:srgbClr val="c3260c"/>
              </a:buClr>
              <a:buSzPct val="129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OUTLIER TEST ON EACH GENDER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4D05-F139-4DA0-B771-517F09DED1CF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920" y="3809880"/>
            <a:ext cx="864864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plots of our data broken down by gender shows that the both females and males had the same median at 2 skittles. The range for females was larger, which was (0,6) skittles, compared to the males which was (0,4) skittles. However they both had an IQR of 2 skittles.  Finally, the males’ data appears to be more symmetrical, while the females’ data is clearly right skewed.  Both are unimodal when we look at histograms of the data.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43000" y="729720"/>
            <a:ext cx="7315200" cy="407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2 sample t test on male vs. female average skittle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ditions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Statement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ypotheses: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o: µF = µM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Ha: µF ≠ µM 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Test statistic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P-value (df!)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f3f3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  <a:p>
            <a:pPr marL="6480">
              <a:spcBef>
                <a:spcPts val="499"/>
              </a:spcBef>
              <a:buClr>
                <a:srgbClr val="c3260c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f3f3f"/>
                </a:solidFill>
                <a:latin typeface="Trebuchet MS"/>
              </a:rPr>
              <a:t>If reject, complete a confidence interval</a:t>
            </a:r>
            <a:endParaRPr b="0" lang="en-US" sz="2200" spc="-1" strike="noStrike">
              <a:solidFill>
                <a:srgbClr val="3f3f3f"/>
              </a:solidFill>
              <a:latin typeface="Trebuchet MS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99000" y="6283440"/>
            <a:ext cx="24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3B21-457D-4F59-AD67-8B86FE7AB080}" type="slidenum">
              <a:rPr b="0" lang="en-US" sz="1200" spc="-1" strike="noStrike">
                <a:solidFill>
                  <a:srgbClr val="7f7f7f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pshutz.T294</dc:creator>
  <dc:description/>
  <dc:language>en-US</dc:language>
  <cp:lastModifiedBy>MCNELIS, LAUREN</cp:lastModifiedBy>
  <dcterms:modified xsi:type="dcterms:W3CDTF">2013-01-15T22:11:09Z</dcterms:modified>
  <cp:revision>16</cp:revision>
  <dc:subject/>
  <dc:title>Colored Words Experiment</dc:title>
</cp:coreProperties>
</file>